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9.pct" ContentType="image/x-pict"/>
  <Override PartName="/ppt/media/Jeopardy.wav" ContentType="audio/x-wav"/>
  <Override PartName="/ppt/media/APPLAUSE.WAV" ContentType="audio/x-wav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8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F41-F91E-4281-9F84-91E26D5E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D37-E3A2-4CA9-8C7E-5222D564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27E-6083-4A49-AF29-F0F14B2A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F09-6C3A-4839-A815-599D3D38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F268-6231-4786-AA7E-C4809A98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359-49D6-4263-A8F0-8CEDA53B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685-04A7-49FD-8070-B46B30E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BDF-0F37-417B-94CD-F7F08515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A01-7192-4AD4-9DB5-49E66250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DFE7-FFBC-4457-AFAF-099B8255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6F0-C8F0-4304-ADEE-8E219617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6FB-128E-4700-B278-0A35C95A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5640-52F7-4A03-B4D1-C9A1D0FD5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" Target="slide36.xm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" Target="slide46.xml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1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2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1.png"/><Relationship Id="rId27" Type="http://schemas.openxmlformats.org/officeDocument/2006/relationships/slide" Target="slide48.xml"/><Relationship Id="rId28" Type="http://schemas.openxmlformats.org/officeDocument/2006/relationships/image" Target="../media/image2.png"/><Relationship Id="rId29" Type="http://schemas.openxmlformats.org/officeDocument/2006/relationships/image" Target="../media/image1.png"/><Relationship Id="rId30" Type="http://schemas.openxmlformats.org/officeDocument/2006/relationships/slide" Target="slide58.xml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9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image" Target="../media/image2.png"/><Relationship Id="rId37" Type="http://schemas.openxmlformats.org/officeDocument/2006/relationships/image" Target="../media/image1.png"/><Relationship Id="rId38" Type="http://schemas.openxmlformats.org/officeDocument/2006/relationships/slide" Target="slide29.xml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slide" Target="slide40.xml"/><Relationship Id="rId42" Type="http://schemas.openxmlformats.org/officeDocument/2006/relationships/image" Target="../media/image2.png"/><Relationship Id="rId43" Type="http://schemas.openxmlformats.org/officeDocument/2006/relationships/image" Target="../media/image1.png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6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3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image" Target="../media/image2.png"/><Relationship Id="rId65" Type="http://schemas.openxmlformats.org/officeDocument/2006/relationships/image" Target="../media/image1.png"/><Relationship Id="rId66" Type="http://schemas.openxmlformats.org/officeDocument/2006/relationships/image" Target="../media/image2.png"/><Relationship Id="rId67" Type="http://schemas.openxmlformats.org/officeDocument/2006/relationships/image" Target="../media/image1.png"/><Relationship Id="rId68" Type="http://schemas.openxmlformats.org/officeDocument/2006/relationships/slide" Target="slide44.xml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64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1.png"/><Relationship Id="rId81" Type="http://schemas.openxmlformats.org/officeDocument/2006/relationships/hyperlink" Target="file:///tmp/home/.config/libreoffice/4/user/gallery/APPLAUSE.WAV" TargetMode="External"/><Relationship Id="rId82" Type="http://schemas.openxmlformats.org/officeDocument/2006/relationships/image" Target="../media/image3.png"/><Relationship Id="rId83" Type="http://schemas.openxmlformats.org/officeDocument/2006/relationships/oleObject" Target="../embeddings/oleObject1.bin"/><Relationship Id="rId84" Type="http://schemas.openxmlformats.org/officeDocument/2006/relationships/image" Target="../media/image4.png"/><Relationship Id="rId8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ubunits of  protein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ost abundant compound in living 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organelle labeled 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47920" y="152280"/>
            <a:ext cx="57610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gi Compl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48006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function of the organelle labeled 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ite of respi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hree things that plant cells have that animal cells do not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l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rge Vac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ue or false a mushroom is an autotro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ur organic molecules 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880" y="1447920"/>
            <a:ext cx="63248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pi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ucleic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43434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hase of mitosis is represented by this im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558792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two main stages of 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 and cytokin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has 12 chromosomes, how many chromosomes will each of its daughter cells have after 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which phase does crossing over occu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has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rocess occurs in somatic cel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ducts of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xygen and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imary plant pigment used in photo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lorophy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7862760" y="21621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27144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7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8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0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1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3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4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4815000" y="31528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5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6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8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9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6338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4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5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9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0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1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2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3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4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338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7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8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862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9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0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62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3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4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5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66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7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6338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4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5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76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77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78"/>
          <a:stretch/>
        </p:blipFill>
        <p:spPr>
          <a:xfrm>
            <a:off x="4724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79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80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cabul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organel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ell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1219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hotosyn-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c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is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40384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urce of the ADP and NADP+ shown in the diagra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493056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lvin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396252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ccording to the diagram, what substances contain the chemical energy produced in the light rea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600200" y="0"/>
            <a:ext cx="554040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P and NAD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et gain of ATP in glycoly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 ATP molecu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ype of food does a primary consumer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nd result of ecological suc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climax comm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in which two cells from different parents unite to produce the first cell of a new organis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38080" y="518148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decomposers in th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cteria and Fung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143000" y="556272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above diagram, how many primary consumers are eaten by the sna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858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b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is the most commonly known pioneer spec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c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5257800"/>
            <a:ext cx="6324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tructure numbered 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666880"/>
            <a:ext cx="6324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791320" cy="4411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50720" y="5180400"/>
            <a:ext cx="80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name of the structure that is indicated by number 3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ncr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510552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structure labeled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4771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47242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ame of the muscle labeled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77120" cy="45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phrag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25146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name of the section that cuts a body in a direction that is perpendicular to the longitudinal ax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ver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71600" y="2955960"/>
            <a:ext cx="7162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possible for a man with blood type AB to marry a woman who is heterozygous for type B blood to have a child that is type 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95280" y="2971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63652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ocess by which organisms keep their internal conditions relatively stable is call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a cell of an organism contains a nucleus, that cell is said to be a(n)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ISD</cp:lastModifiedBy>
  <dcterms:modified xsi:type="dcterms:W3CDTF">2008-06-10T20:38:56Z</dcterms:modified>
  <cp:revision>47</cp:revision>
  <dc:subject/>
  <dc:title>No Slide Title</dc:title>
</cp:coreProperties>
</file>