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7A9-006F-4761-9D9A-8F11B526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FF4-CF8B-4CAE-A344-68950BBF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ED2-D6E4-45A7-8370-669919B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69F-2F64-4CD3-A171-3FDACA1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7A5-E3F8-4ED8-8A36-C467555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9C4-9E28-4462-B069-AA2E0F5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F98-56C1-453A-A1C1-736C1EC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731-705E-4EEA-B10D-4AD3B4E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24F-6CD4-4D91-8178-8CB5336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E63-C818-47DB-BA61-5E32FBE1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AB4-9811-40D6-B8E9-693D6C3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693-FD06-4A5F-A016-37330E48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D78-0D84-4C31-8497-4D5D24A0E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main stages of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 and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phase does crossing over occu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has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rocess occurs in somatic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40384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urce of the ADP and NADP+ shown in the diagr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93056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9625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the diagram, what substances contain the chemical energy produced in the light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540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et gain of ATP in glycoly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food does a primary consumer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d result of ecological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51814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decomposers in th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55627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above diagram, how many primary consumers are eaten by the sn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b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is the most commonly known pioneer spec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257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tructure numbered 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791320" cy="441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50720" y="5180400"/>
            <a:ext cx="80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structure that is indicated by number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nc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5105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structure labeled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724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muscle labeled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ection that cuts a body in a direction that is perpendicular to the longitudinal ax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0:38:56Z</dcterms:modified>
  <cp:revision>47</cp:revision>
  <dc:subject/>
  <dc:title>No Slide Title</dc:title>
</cp:coreProperties>
</file>