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140E-BA12-43C5-99AA-30EA5A1E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728-B594-4729-87E8-61286EC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384-C2CC-44EB-9381-3A5C16C8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1447-1B65-41BB-A9A5-53908BA2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3CCE-4420-4FDF-B8B3-1518C15A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6DA-05D5-43C8-938D-A1DAD6D6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3AA-1B10-4133-AA1A-DE09327D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892-3293-4384-B4C2-616B836C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61A-AEBD-43C9-A0A3-0E65E1E3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2D3-1BAB-4415-8030-787E311F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BBD-001F-4C4E-96C6-7AF8B0F1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F689-6826-4017-9ED3-F6F61301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13E-C34A-4AC1-88EF-F018DCC9D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wo main stages of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 and 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which phase does crossing over occu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has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rocess occurs in somatic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c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40384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ource of the ADP and NADP+ shown in the diagra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493056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9625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ording to the diagram, what substances contain the chemical energy produced in the light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5404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P and NAD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et gain of ATP in glycoly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ATP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food does a primary consumer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nd result of ecological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51814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decomposers in th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cteria and F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55627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above diagram, how many primary consumers are eaten by the sn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b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is the most commonly known pioneer spec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257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tructure numbered 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791320" cy="441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50720" y="5180400"/>
            <a:ext cx="80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name of the structure that is indicated by number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nc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5105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structure labeled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771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724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muscle labeled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phrag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ection that cuts a body in a direction that is perpendicular to the longitudinal ax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0:38:56Z</dcterms:modified>
  <cp:revision>47</cp:revision>
  <dc:subject/>
  <dc:title>No Slide Title</dc:title>
</cp:coreProperties>
</file>