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6DA-F57D-4DB2-9A9E-53D835DB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E7-508D-4570-9C27-1F3EF80A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784-A25A-419C-94D7-E8FFF18E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1CA-F431-4FF8-8631-17D17370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B7E-503A-4AE5-A022-7AC0751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F22-953A-40AC-8A38-9808A01F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972-709F-4990-B62D-9F501A14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7F94-8DF7-45FB-85D6-433D440E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32A-A8B8-4F61-882D-54D7B7A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243-10D7-42A5-8E39-4B0DED3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A47F-5D00-4457-8D29-F31AB6E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334-3FBE-4643-BF1A-A27047AC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EB4D-7305-47DD-8DBC-4FA22B1D6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228600"/>
            <a:ext cx="3111480" cy="3162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3225600"/>
            <a:ext cx="685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2, 5, 1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523880" y="762120"/>
          <a:ext cx="5310360" cy="298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62120"/>
                    <a:ext cx="531036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1613160" y="4296600"/>
            <a:ext cx="54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rrect ord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, 4, 1, 6, 7, 5, 2,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division resulting in game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mation (sex cell)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48520" y="190512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17220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en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6313320" y="1294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at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981080"/>
            <a:ext cx="63244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oseph Priestly used a candle and a sprig of mint to determine that plant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re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(a product of photosynthe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962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wo reactants for Cellular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685800"/>
            <a:ext cx="769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both plants and animals, food is broken down and carbon dioxide is released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respir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the carbon cyc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by photosynthes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by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two parts of the central nervous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in and Spinal Ch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tructure connects muscles to b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nd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18288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the names of the chambers of the hea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ria and Ventric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2286000"/>
            <a:ext cx="6324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st nutrients are absorbed in this structure of the digestiv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mall Intest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excretory organ filters the blo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3880" y="15238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unnett square used f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edict the probability or outcome of a particular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4600" y="1617480"/>
            <a:ext cx="709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a homozygous tall pea plant (TT) and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ozygous short pea plant (tt) are crossed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266688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00% of the offspring will be t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1219320"/>
            <a:ext cx="6324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ysical characteristics of an organism are 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9320" y="23623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ituation in which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both alleles are express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equally in the phenotype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685800"/>
            <a:ext cx="6324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440" y="22852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71600" y="251460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473800" cy="2971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609480" y="376920"/>
            <a:ext cx="7479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ent traced a widow’s peak hairline in her family.  Based on her interviews, she drew the above pedigree.  What are the probable geno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student’s parents (George and Arlene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2514600"/>
            <a:ext cx="6324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lene is ww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orge is W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1:54:55Z</dcterms:modified>
  <cp:revision>48</cp:revision>
  <dc:subject/>
  <dc:title>No Slide Title</dc:title>
</cp:coreProperties>
</file>