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image9.pct" ContentType="image/x-pict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6E18-1E34-4024-8CF1-CB80968D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B43E-ADFE-47BF-804F-53C01D64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2372-A277-46BB-A08C-46039D72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C039-28C3-412E-B4E5-E87CA4C43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6EEC-46A6-44EC-97EE-BA732A81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822B-7586-4944-9377-2CC24FF2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4CA5-4995-4EBA-A084-35E9DB22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863C-1249-4BC2-BF4B-1CB6A5B8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A937-CDB5-4EC2-92C9-EBBBF4AC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F232-4127-42D3-B8EE-34181F67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E17E-A35F-4832-BA9B-F5309D3B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7A60-32E0-40A3-9744-A49EB270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61E1-EC27-4DBC-9CA4-43DACB261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" Target="slide36.xm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" Target="slide46.xml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1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2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image" Target="../media/image2.png"/><Relationship Id="rId26" Type="http://schemas.openxmlformats.org/officeDocument/2006/relationships/image" Target="../media/image1.png"/><Relationship Id="rId27" Type="http://schemas.openxmlformats.org/officeDocument/2006/relationships/slide" Target="slide48.xml"/><Relationship Id="rId28" Type="http://schemas.openxmlformats.org/officeDocument/2006/relationships/image" Target="../media/image2.png"/><Relationship Id="rId29" Type="http://schemas.openxmlformats.org/officeDocument/2006/relationships/image" Target="../media/image1.png"/><Relationship Id="rId30" Type="http://schemas.openxmlformats.org/officeDocument/2006/relationships/slide" Target="slide58.xml"/><Relationship Id="rId31" Type="http://schemas.openxmlformats.org/officeDocument/2006/relationships/image" Target="../media/image2.png"/><Relationship Id="rId32" Type="http://schemas.openxmlformats.org/officeDocument/2006/relationships/image" Target="../media/image1.png"/><Relationship Id="rId33" Type="http://schemas.openxmlformats.org/officeDocument/2006/relationships/slide" Target="slide9.xml"/><Relationship Id="rId34" Type="http://schemas.openxmlformats.org/officeDocument/2006/relationships/image" Target="../media/image2.png"/><Relationship Id="rId35" Type="http://schemas.openxmlformats.org/officeDocument/2006/relationships/image" Target="../media/image1.png"/><Relationship Id="rId36" Type="http://schemas.openxmlformats.org/officeDocument/2006/relationships/image" Target="../media/image2.png"/><Relationship Id="rId37" Type="http://schemas.openxmlformats.org/officeDocument/2006/relationships/image" Target="../media/image1.png"/><Relationship Id="rId38" Type="http://schemas.openxmlformats.org/officeDocument/2006/relationships/slide" Target="slide29.xml"/><Relationship Id="rId39" Type="http://schemas.openxmlformats.org/officeDocument/2006/relationships/image" Target="../media/image2.png"/><Relationship Id="rId40" Type="http://schemas.openxmlformats.org/officeDocument/2006/relationships/image" Target="../media/image1.png"/><Relationship Id="rId41" Type="http://schemas.openxmlformats.org/officeDocument/2006/relationships/slide" Target="slide40.xml"/><Relationship Id="rId42" Type="http://schemas.openxmlformats.org/officeDocument/2006/relationships/image" Target="../media/image2.png"/><Relationship Id="rId43" Type="http://schemas.openxmlformats.org/officeDocument/2006/relationships/image" Target="../media/image1.png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6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image" Target="../media/image2.png"/><Relationship Id="rId50" Type="http://schemas.openxmlformats.org/officeDocument/2006/relationships/image" Target="../media/image1.png"/><Relationship Id="rId51" Type="http://schemas.openxmlformats.org/officeDocument/2006/relationships/image" Target="../media/image2.png"/><Relationship Id="rId52" Type="http://schemas.openxmlformats.org/officeDocument/2006/relationships/image" Target="../media/image1.png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image" Target="../media/image2.png"/><Relationship Id="rId56" Type="http://schemas.openxmlformats.org/officeDocument/2006/relationships/image" Target="../media/image1.png"/><Relationship Id="rId57" Type="http://schemas.openxmlformats.org/officeDocument/2006/relationships/image" Target="../media/image2.png"/><Relationship Id="rId58" Type="http://schemas.openxmlformats.org/officeDocument/2006/relationships/image" Target="../media/image1.png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13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2.png"/><Relationship Id="rId67" Type="http://schemas.openxmlformats.org/officeDocument/2006/relationships/image" Target="../media/image1.png"/><Relationship Id="rId68" Type="http://schemas.openxmlformats.org/officeDocument/2006/relationships/slide" Target="slide44.xml"/><Relationship Id="rId69" Type="http://schemas.openxmlformats.org/officeDocument/2006/relationships/image" Target="../media/image2.png"/><Relationship Id="rId70" Type="http://schemas.openxmlformats.org/officeDocument/2006/relationships/image" Target="../media/image1.png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64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hyperlink" Target="file:///tmp/home/.config/libreoffice/4/user/gallery/APPLAUSE.WAV" TargetMode="External"/><Relationship Id="rId82" Type="http://schemas.openxmlformats.org/officeDocument/2006/relationships/image" Target="../media/image3.png"/><Relationship Id="rId83" Type="http://schemas.openxmlformats.org/officeDocument/2006/relationships/oleObject" Target="../embeddings/oleObject1.bin"/><Relationship Id="rId84" Type="http://schemas.openxmlformats.org/officeDocument/2006/relationships/image" Target="../media/image4.png"/><Relationship Id="rId85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ukaryot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ubunits of  protein molec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mino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ost abundant compound in living th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4343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ame of the organelle labeled 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447920" y="152280"/>
            <a:ext cx="576108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lgi Compl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4800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unction of the organelle labeled 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752480" y="228600"/>
            <a:ext cx="4548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ite of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hree things that plant cells have that animal cells do not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266688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loropl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l w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rge Vacu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e or false a mushroom is an autotro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our organic molecules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1447920"/>
            <a:ext cx="63248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pi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te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ucleic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rbohyd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43434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phase of mitosis is represented by this ima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676520" y="304920"/>
            <a:ext cx="558792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a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895480" y="228600"/>
            <a:ext cx="3111480" cy="3162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90720" y="3225600"/>
            <a:ext cx="6858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correct ord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, 2, 5, 1,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a cell has 12 chromosomes, how many chromosomes will each of its daughter cells have after mi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YOUR NAM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523880" y="762120"/>
          <a:ext cx="5310360" cy="298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762120"/>
                    <a:ext cx="531036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1613160" y="4296600"/>
            <a:ext cx="545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correct ord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, 4, 1, 6, 7, 5, 2,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l division resulting in game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rmation (sex cell) is cal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i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ducts of photo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xygen and Gluc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imary plant pigment used in photo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lorophy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290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9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6248520" y="190512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7862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271440" y="31528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7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8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0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1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3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4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4815000" y="31528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5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6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7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8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9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1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2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4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5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1766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6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7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8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9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0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1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2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3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6338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4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5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7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8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144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9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0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766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1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2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3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4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81500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7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8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7862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9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0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2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3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1766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4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5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3290760" y="612468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6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7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9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0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6338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1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2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4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5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76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77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78"/>
          <a:stretch/>
        </p:blipFill>
        <p:spPr>
          <a:xfrm>
            <a:off x="4724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79"/>
          <a:stretch/>
        </p:blipFill>
        <p:spPr>
          <a:xfrm>
            <a:off x="617220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80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ell organe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ell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12193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hotosyn-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ene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>
            <a:hlinkClick r:id="rId81"/>
          </p:cNvPr>
          <p:cNvPicPr/>
          <p:nvPr/>
        </p:nvPicPr>
        <p:blipFill>
          <a:blip r:embed="rId82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6313320" y="12949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nato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14400" y="1981080"/>
            <a:ext cx="63244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seph Priestly used a candle and a sprig of mint to determine that plant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releas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(a product of photosynthesi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xy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39625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wo reactants for Cellular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xygen and Gluc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14400" y="685800"/>
            <a:ext cx="7696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both plants and animals, food is broken down and carbon dioxide is released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by respir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by the carbon cyc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by photosynthes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. by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two parts of the central nervous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ain and Spinal Ch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structure connects muscles to bo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nd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2096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cess in which two cells from different parents unite to produce the first cell of a new organis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00200" y="18288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the names of the chambers of the hear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ria and Ventric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95280" y="228600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st nutrients are absorbed in this structure of the digestive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mall Intest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excretory organ filters the bloo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idn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23880" y="152388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punnett square used f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predict the probability or outcome of a particular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4792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4600" y="1617480"/>
            <a:ext cx="7099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a homozygous tall pea plant (TT) and 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mozygous short pea plant (tt) are crossed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47920" y="266688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00% of the offspring will be ta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xual Re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47920" y="121932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h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sical characteristics of an organism are 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19320" y="23623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ituation in which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both alleles are express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equally in the phenotype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14400" y="685800"/>
            <a:ext cx="6324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440" y="2285280"/>
            <a:ext cx="30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domi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371600" y="251460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5473800" cy="2971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609480" y="376920"/>
            <a:ext cx="7479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ent traced a widow’s peak hairline in her family.  Based on her interviews, she drew the above pedigree.  What are the probable genotyp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student’s parents (George and Arlene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71600" y="25146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lene is ww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orge is W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ne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71600" y="295596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s it possible for a man with blood type AB to marry a woman who is heterozygous for type B blood to have a child that is type 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29718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cess by which organisms keep their internal conditions relatively stable is call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meosta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a cell of an organism contains a nucleus, that cell is said to be a(n)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ISD</cp:lastModifiedBy>
  <dcterms:modified xsi:type="dcterms:W3CDTF">2008-06-10T21:54:55Z</dcterms:modified>
  <cp:revision>48</cp:revision>
  <dc:subject/>
  <dc:title>No Slide Title</dc:title>
</cp:coreProperties>
</file>