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5A6-69ED-462C-8E65-8CA7277D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B9C-7F33-4A51-8539-20832C4E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51C-35D4-4F50-86D9-0CB17755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579-6B81-4FBF-9AAD-8EA98976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880-AFC1-4418-9F89-13B281A5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257-9DD4-43E9-8713-37E0D45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75C-4DB7-4736-93CE-9EBE4C38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EA6-8922-4A7B-92B3-2DB944A0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A85-DF95-4837-9B9D-D515E32B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394-33BD-4C97-B8EE-2383CB4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90E-9EE5-4B31-BD53-EB22CA1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5A0-F273-4EA0-9B73-D98EB56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1F2-1F08-4DD3-A7F2-03C01C5D0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32256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2, 5, 1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762120"/>
          <a:ext cx="531036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31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613160" y="42966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4, 1, 6, 7, 5, 2,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division resulting in gam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ation (sex cell)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48520" y="190512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172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313320" y="1294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Priestly used a candle and a sprig of mint to determine that plant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(a product of photosynthe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962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wo reactants for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6858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both plants and animals, food is broken down and carbon dioxide is release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respi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the carbo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by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two parts of the central nervous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in and Spinal Ch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ructure connects muscles to b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nd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1828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names of the chambers of the he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ria and Ventr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nutrients are absorbed in this structure of the digestiv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cretory organ filters the bl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15238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unnett square use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dict the probability or outcome of a particular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1617480"/>
            <a:ext cx="709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 homozygous tall pea plant (TT) and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zygous short pea plant (tt) are cro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666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0% of the offspring will be t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sical characteristics of an organism are 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tuation in which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oth alleles are express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qually in the phenotyp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685800"/>
            <a:ext cx="632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440" y="22852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4738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480" y="376920"/>
            <a:ext cx="747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traced a widow’s peak hairline in her family.  Based on her interviews, she drew the above pedigree.  What are the probable geno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student’s parents (George and Arlen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14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lene is ww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is 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1:54:55Z</dcterms:modified>
  <cp:revision>48</cp:revision>
  <dc:subject/>
  <dc:title>No Slide Title</dc:title>
</cp:coreProperties>
</file>