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D2E-F81C-4EC9-BA15-871309CA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CB0-463F-4786-AF56-943807C0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179-D767-43AF-B041-A6362C5F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7C9-BCE2-4BEB-BCC4-563172C8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AD6-120E-4064-BBFB-C713271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95E-8346-47D6-9E54-8418AA4E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399-092F-4F6F-B2CD-CE40ACBE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3A5-FABD-49E9-8FE9-61AFFC0F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892-5F21-4348-AEEC-6FD6E6A2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ACF-2F33-4262-AE25-FD52CD1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5FA-3C56-44F0-9D19-BCCA6E66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8FD-D76A-4477-A44B-9788680F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579D-F6C9-4C07-A7F6-A1EF4C4DE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111480" cy="3162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3225600"/>
            <a:ext cx="685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2, 5, 1,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762120"/>
          <a:ext cx="5310360" cy="29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5310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613160" y="4296600"/>
            <a:ext cx="54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4, 1, 6, 7, 5, 2,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division resulting in game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mation (sex cell)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48520" y="190512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172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6313320" y="1294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at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98108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seph Priestly used a candle and a sprig of mint to determine that plant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elea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(a product of photosynthe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962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wo reactants for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68580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both plants and animals, food is broken down and carbon dioxide is release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respir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the carbon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by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two parts of the central nervous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in and Spinal Ch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ructure connects muscles to b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nd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1828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names of the chambers of the he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ria and Ventr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nutrients are absorbed in this structure of the digestive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xcretory organ filters the bl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15238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unnett square use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edict the probability or outcome of a particular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4600" y="1617480"/>
            <a:ext cx="709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a homozygous tall pea plant (TT) and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zygous short pea plant (tt) are cro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26668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0% of the offspring will be t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219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sical characteristics of an organism are 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193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ituation in which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oth alleles are express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equally in the phenotype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685800"/>
            <a:ext cx="632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440" y="228528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251460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4738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09480" y="376920"/>
            <a:ext cx="747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traced a widow’s peak hairline in her family.  Based on her interviews, she drew the above pedigree.  What are the probable geno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student’s parents (George and Arlen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514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lene is ww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is W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1:54:55Z</dcterms:modified>
  <cp:revision>48</cp:revision>
  <dc:subject/>
  <dc:title>No Slide Title</dc:title>
</cp:coreProperties>
</file>