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02B-4021-40DF-A874-F7AC41BE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997-F44F-4ED0-8E30-97DE0B5D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695-D343-4D49-BEBD-FC42C8B2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282-E916-4B48-8E34-B0085D37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2E1-107E-4B5B-BB64-2DF5357D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D49-4AA5-4435-867D-01B3B4DC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96D-50A6-478A-AAAF-D8F4BF94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82F-16AE-4DFE-82D7-BAC02D37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242D-60ED-478B-B1B2-4B226192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DC1-07C4-4FFB-9B1D-4C823BE1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872-E14A-4783-A3C0-0E4068C6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911-2C10-4134-83F4-323878C5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E71B-FBEC-40BD-8B78-98EFA86C0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32256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2, 5, 1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762120"/>
          <a:ext cx="531036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31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613160" y="42966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4, 1, 6, 7, 5, 2,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division resulting in gam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ation (sex cell)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48520" y="190512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172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313320" y="1294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Priestly used a candle and a sprig of mint to determine that plant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(a product of photosynthe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962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wo reactants for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6858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both plants and animals, food is broken down and carbon dioxide is release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respi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the carbo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by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two parts of the central nervous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in and Spinal Ch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ructure connects muscles to b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nd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1828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names of the chambers of the he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ria and Ventr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nutrients are absorbed in this structure of the digestiv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cretory organ filters the bl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15238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unnett square use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dict the probability or outcome of a particular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1617480"/>
            <a:ext cx="709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 homozygous tall pea plant (TT) and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zygous short pea plant (tt) are cro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666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0% of the offspring will be t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sical characteristics of an organism are 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tuation in which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oth alleles are express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qually in the phenotyp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685800"/>
            <a:ext cx="632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440" y="22852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4738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480" y="376920"/>
            <a:ext cx="747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traced a widow’s peak hairline in her family.  Based on her interviews, she drew the above pedigree.  What are the probable geno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student’s parents (George and Arlen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14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lene is ww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is 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1:54:55Z</dcterms:modified>
  <cp:revision>48</cp:revision>
  <dc:subject/>
  <dc:title>No Slide Title</dc:title>
</cp:coreProperties>
</file>